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C9C-E451-4DBA-AC82-9C0F837C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583-C149-41B5-8335-87B49C0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73B-3DED-441E-9279-3F818A96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6B1-BDB0-4BB2-AAC8-A27367B0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546A-48A4-48AD-8D89-BAD19F6B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6969-E288-40C5-A156-2D6DD78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DCC8-5087-46CF-9594-2619FA5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CB0C-2CEE-48BD-B458-562EB8D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8935-AB9E-40F3-8339-CD73348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303-A444-42FB-9C3C-C14DA4C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0EA2-E723-4053-997F-E43AF30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8EF-417C-4868-8D79-95438FC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59CD-34F1-4AAE-8985-C2B395E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89A-AA55-4FCF-95F2-320CA11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881-BD13-4866-B3F6-B7E702C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B173-DEBA-40BE-B5AE-9C11A537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051-E357-42DA-B901-349A6F57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D41A0-397E-4CAA-B7CF-DC6E66EF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3011A-F186-4A8A-ADC9-A2A7C254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159AB-E40A-4F16-BD86-D6F0DAEC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0D4C3-4E2A-404E-AD44-52C9AAB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ACE5E-37C8-47EA-8893-914AD90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0E4-BCE0-4F1F-A6EB-51EFE7D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ADC92-FEDA-4CB6-BDB2-53F0450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E9D3A-CEC3-4023-9505-4C48D26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7CCA9-AC83-428B-B331-16E059E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94D70-A733-4133-9195-F89264DA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74FD9-A233-499E-8EAF-6352DB3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83C5A-75A9-4001-A064-4B95CEE4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E89A8-D4ED-4187-9257-86E5CA8E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A49B-4871-4F1C-93C2-5CBFD1E5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A4D4-40D9-4249-B9F0-52E7180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63AA-8E2A-434B-BEC0-E5A0E9D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154-3BA2-49F8-B953-6AE9637D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4FDB-A761-49E1-A3A8-0A081554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85FC-5C49-4EA4-80D6-8439ECA4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0831-C07D-4B07-9B9F-55E0DC8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CDB-D29E-4DED-ABD9-F9E78D9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DA65-9B37-42BA-B43F-11B0E1A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6ABE-8A0D-408F-BB83-3C0F001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239C-E6CA-47F8-B62C-07AA459D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09DD-7A39-42AB-AAC0-5842CD63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4DD9-6F5E-41C5-A869-BAE19BBE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EA3-2A7A-489A-B0FF-9445CC35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B57-498C-479A-9D45-6BAA99A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C71-F457-4A5D-9AAD-EEB91D7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02B-828F-4DBE-9123-472C033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F6C-6C76-42A3-A7BD-95ADA9E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5B9-C225-4EB4-AA6E-81F322EF25C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346D-2225-4C0F-A00B-6253AD4069E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E04-BF53-4ED0-A726-38A4C47ED7B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FF7-E3EF-4D9B-A819-1C5DF2F8273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f68"/>
                </a:solidFill>
                <a:latin typeface="Trebuchet MS"/>
              </a:rPr>
              <a:t>Ch. 23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67652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the following information to help you answer the question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pulation = 1000 peo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16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48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36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are the genotypic frequencies?  Allele frequenci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directional, stabilizing or disruptive selection to answer the follow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ice in the Arizona desert have either dark or light fur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ds produce 4-5 eggs per clu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verage human baby weighs 7 lbs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rwin's finches and beak size during drough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itle 1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main modes of sp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24_05AlloSymSpeciation-L.jpg"/>
          <p:cNvPicPr/>
          <p:nvPr/>
        </p:nvPicPr>
        <p:blipFill>
          <a:blip r:embed="rId1"/>
          <a:stretch/>
        </p:blipFill>
        <p:spPr>
          <a:xfrm>
            <a:off x="1600200" y="1371600"/>
            <a:ext cx="597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main modes of speciation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487520"/>
          <a:ext cx="4038480" cy="50990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llopatric Spe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other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r>
                        <a:rPr b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homeland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graphically </a:t>
                      </a: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isolated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pul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used by geologic events or proces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volves by natural selection &amp; genetic dri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. Squirrels on N/S rims of Grand Cany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572000" y="1487520"/>
          <a:ext cx="4267080" cy="50814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030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ympatric Spe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together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r>
                        <a:rPr b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homeland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8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Overlappin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pulations within home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11240">
                <a:tc>
                  <a:txBody>
                    <a:bodyPr lIns="90000" rIns="900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ne flow between subpopulations blocked by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lyploi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xual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bitat different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. polyploidy in crops (oats, cotton, potatoes, whea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Allopatric speciation of antelope squirrels on opposite rims of the Grand Canyon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Picture 1" descr="24_06_AlloSpeciaGCanyon-L.jpg"/>
          <p:cNvPicPr/>
          <p:nvPr/>
        </p:nvPicPr>
        <p:blipFill>
          <a:blip r:embed="rId1"/>
          <a:stretch/>
        </p:blipFill>
        <p:spPr>
          <a:xfrm>
            <a:off x="914400" y="2209680"/>
            <a:ext cx="736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609480" y="2133720"/>
            <a:ext cx="8001000" cy="1901880"/>
            <a:chOff x="609480" y="2133720"/>
            <a:chExt cx="8001000" cy="1901880"/>
          </a:xfrm>
        </p:grpSpPr>
        <p:pic>
          <p:nvPicPr>
            <p:cNvPr id="253" name="Picture 30" descr="_x001b_24_08SympatSpeciation_U.jpg                                    0002377A&#10;CS1-Vol.07                     BD7D9C21:"/>
            <p:cNvPicPr/>
            <p:nvPr/>
          </p:nvPicPr>
          <p:blipFill>
            <a:blip r:embed="rId1"/>
            <a:srcRect l="0" t="43186" r="0" b="11860"/>
            <a:stretch/>
          </p:blipFill>
          <p:spPr>
            <a:xfrm>
              <a:off x="609480" y="2133720"/>
              <a:ext cx="8001000" cy="155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6"/>
            <p:cNvGrpSpPr/>
            <p:nvPr/>
          </p:nvGrpSpPr>
          <p:grpSpPr>
            <a:xfrm>
              <a:off x="901440" y="3356640"/>
              <a:ext cx="7094520" cy="678960"/>
              <a:chOff x="901440" y="3356640"/>
              <a:chExt cx="7094520" cy="678960"/>
            </a:xfrm>
          </p:grpSpPr>
          <p:sp>
            <p:nvSpPr>
              <p:cNvPr id="255" name="Text Box 26"/>
              <p:cNvSpPr/>
              <p:nvPr/>
            </p:nvSpPr>
            <p:spPr>
              <a:xfrm>
                <a:off x="901440" y="3521160"/>
                <a:ext cx="717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7"/>
              <p:cNvSpPr/>
              <p:nvPr/>
            </p:nvSpPr>
            <p:spPr>
              <a:xfrm>
                <a:off x="3057480" y="3669480"/>
                <a:ext cx="918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8"/>
              <p:cNvSpPr/>
              <p:nvPr/>
            </p:nvSpPr>
            <p:spPr>
              <a:xfrm>
                <a:off x="7465320" y="3693240"/>
                <a:ext cx="5306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9"/>
              <p:cNvSpPr/>
              <p:nvPr/>
            </p:nvSpPr>
            <p:spPr>
              <a:xfrm>
                <a:off x="5334480" y="3356640"/>
                <a:ext cx="5306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2514600" y="403848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utopolyploid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ympatric Speciation by Polyploid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utopoly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xtra sets of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Failure of cell division (2n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4n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Eg. Strawberries are 4n, 6n, 8n, 10n (decaploid)!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lopoly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2 species produce a hybr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pecies A (2n=6) + Species B (2n=4)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Hybrid (2n=10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15920" y="4560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24_11Allopolyploidy_4-L.jpg"/>
          <p:cNvPicPr/>
          <p:nvPr/>
        </p:nvPicPr>
        <p:blipFill>
          <a:blip r:embed="rId1"/>
          <a:stretch/>
        </p:blipFill>
        <p:spPr>
          <a:xfrm>
            <a:off x="2822400" y="-58680"/>
            <a:ext cx="6321600" cy="6916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3629160" cy="12952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Allopolyploid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Diagram 3" descr=""/>
          <p:cNvPicPr/>
          <p:nvPr/>
        </p:nvPicPr>
        <p:blipFill>
          <a:blip r:embed="rId1"/>
          <a:stretch/>
        </p:blipFill>
        <p:spPr>
          <a:xfrm>
            <a:off x="517680" y="298440"/>
            <a:ext cx="8261280" cy="1079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2860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new species arise from a single common ances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whe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3760" indent="-51408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A few organisms make way to new, distant areas (allopatric speciation)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23760" indent="-51408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Environmental change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extinctions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new niches for survivor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. Hawaiian archepela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5714640" y="4191120"/>
            <a:ext cx="2667240" cy="2412720"/>
            <a:chOff x="5714640" y="4191120"/>
            <a:chExt cx="2667240" cy="2412720"/>
          </a:xfrm>
        </p:grpSpPr>
        <p:sp>
          <p:nvSpPr>
            <p:cNvPr id="268" name="Right Arrow 6"/>
            <p:cNvSpPr/>
            <p:nvPr/>
          </p:nvSpPr>
          <p:spPr>
            <a:xfrm>
              <a:off x="7515360" y="5295960"/>
              <a:ext cx="866520" cy="261720"/>
            </a:xfrm>
            <a:prstGeom prst="rightArrow">
              <a:avLst>
                <a:gd name="adj1" fmla="val 50000"/>
                <a:gd name="adj2" fmla="val 51012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ight Arrow 7"/>
            <p:cNvSpPr/>
            <p:nvPr/>
          </p:nvSpPr>
          <p:spPr>
            <a:xfrm rot="10800000">
              <a:off x="5714640" y="5295600"/>
              <a:ext cx="933480" cy="261720"/>
            </a:xfrm>
            <a:prstGeom prst="rightArrow">
              <a:avLst>
                <a:gd name="adj1" fmla="val 50000"/>
                <a:gd name="adj2" fmla="val 51024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ight Arrow 8"/>
            <p:cNvSpPr/>
            <p:nvPr/>
          </p:nvSpPr>
          <p:spPr>
            <a:xfrm rot="5400000">
              <a:off x="6526080" y="58816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ight Arrow 9"/>
            <p:cNvSpPr/>
            <p:nvPr/>
          </p:nvSpPr>
          <p:spPr>
            <a:xfrm rot="3109800">
              <a:off x="7002360" y="57052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ight Arrow 10"/>
            <p:cNvSpPr/>
            <p:nvPr/>
          </p:nvSpPr>
          <p:spPr>
            <a:xfrm rot="13545000">
              <a:off x="5908320" y="4890600"/>
              <a:ext cx="1174680" cy="266400"/>
            </a:xfrm>
            <a:prstGeom prst="rightArrow">
              <a:avLst>
                <a:gd name="adj1" fmla="val 50000"/>
                <a:gd name="adj2" fmla="val 49096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ight Arrow 11"/>
            <p:cNvSpPr/>
            <p:nvPr/>
          </p:nvSpPr>
          <p:spPr>
            <a:xfrm rot="7551000">
              <a:off x="5984280" y="578196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ight Arrow 12"/>
            <p:cNvSpPr/>
            <p:nvPr/>
          </p:nvSpPr>
          <p:spPr>
            <a:xfrm rot="19470000">
              <a:off x="7014960" y="4829040"/>
              <a:ext cx="1200240" cy="261720"/>
            </a:xfrm>
            <a:prstGeom prst="rightArrow">
              <a:avLst>
                <a:gd name="adj1" fmla="val 50000"/>
                <a:gd name="adj2" fmla="val 51019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ight Arrow 13"/>
            <p:cNvSpPr/>
            <p:nvPr/>
          </p:nvSpPr>
          <p:spPr>
            <a:xfrm rot="16200000">
              <a:off x="6494400" y="46468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"/>
            <p:cNvSpPr/>
            <p:nvPr/>
          </p:nvSpPr>
          <p:spPr>
            <a:xfrm>
              <a:off x="6315120" y="4641840"/>
              <a:ext cx="1600200" cy="156996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Founding 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9"/>
          <p:cNvGrpSpPr/>
          <p:nvPr/>
        </p:nvGrpSpPr>
        <p:grpSpPr>
          <a:xfrm>
            <a:off x="762120" y="1327320"/>
            <a:ext cx="7545240" cy="5454360"/>
            <a:chOff x="762120" y="1327320"/>
            <a:chExt cx="7545240" cy="5454360"/>
          </a:xfrm>
        </p:grpSpPr>
        <p:pic>
          <p:nvPicPr>
            <p:cNvPr id="278" name="Picture 21" descr="_x001e_24_12AdaptiveRadiation_CNL.jpg                                 0002377A&#10;CS1-Vol.07                     BD7D9C21:"/>
            <p:cNvPicPr/>
            <p:nvPr/>
          </p:nvPicPr>
          <p:blipFill>
            <a:blip r:embed="rId1"/>
            <a:stretch/>
          </p:blipFill>
          <p:spPr>
            <a:xfrm>
              <a:off x="762120" y="1327320"/>
              <a:ext cx="7545240" cy="54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4"/>
            <p:cNvSpPr/>
            <p:nvPr/>
          </p:nvSpPr>
          <p:spPr>
            <a:xfrm>
              <a:off x="3258360" y="330876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U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889800" y="365400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AH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5425200" y="424620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WAI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5105520" y="2895480"/>
              <a:ext cx="446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4723560" y="3412440"/>
              <a:ext cx="50220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4313880" y="3317040"/>
              <a:ext cx="5500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OK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4280040" y="3763440"/>
              <a:ext cx="50220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N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5972400" y="3712680"/>
              <a:ext cx="16668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rgyroxiphium sandw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6898680" y="6491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linear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797280" y="638460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sca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914760" y="5711040"/>
              <a:ext cx="11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waialeala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1189800" y="2994120"/>
              <a:ext cx="11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lax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 rot="20553000">
              <a:off x="4661640" y="2112840"/>
              <a:ext cx="11772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Adaptive Radi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Hawaiian plants descended from ancestral tarweed from North America 5 million years a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ybrid Zo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1294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omplete reproductive barri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outcomes: reinforcement, fusion, st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7" descr="24_14HybrZoneOverTime_4-L.jpg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2651040" y="3962520"/>
            <a:ext cx="4402080" cy="5260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7638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9" name="TextBox 5"/>
          <p:cNvSpPr/>
          <p:nvPr/>
        </p:nvSpPr>
        <p:spPr>
          <a:xfrm>
            <a:off x="380880" y="4572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lar” or “Pizz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447920" y="619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zz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56386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84280" y="127080"/>
            <a:ext cx="787392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4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e Origin of Spec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1" descr="24_02bBioSpeciesConcept-L.jpg"/>
          <p:cNvPicPr/>
          <p:nvPr/>
        </p:nvPicPr>
        <p:blipFill>
          <a:blip r:embed="rId1"/>
          <a:stretch/>
        </p:blipFill>
        <p:spPr>
          <a:xfrm>
            <a:off x="3809880" y="762120"/>
            <a:ext cx="504036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167652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Gradua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mmon ances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low, constant chan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unctuated Equilib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ldridge &amp; Goul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Long period of stasis punctuated by short bursts of significant chan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609480"/>
            <a:ext cx="8229600" cy="865440"/>
            <a:chOff x="457200" y="609480"/>
            <a:chExt cx="8229600" cy="865440"/>
          </a:xfrm>
        </p:grpSpPr>
        <p:sp>
          <p:nvSpPr>
            <p:cNvPr id="306" name="Rounded Rectangle 7"/>
            <p:cNvSpPr/>
            <p:nvPr/>
          </p:nvSpPr>
          <p:spPr>
            <a:xfrm>
              <a:off x="457200" y="609480"/>
              <a:ext cx="8229600" cy="86544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ounded Rectangle 4"/>
            <p:cNvSpPr/>
            <p:nvPr/>
          </p:nvSpPr>
          <p:spPr>
            <a:xfrm>
              <a:off x="500040" y="652320"/>
              <a:ext cx="8143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141120" bIns="14112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Georgia"/>
                </a:rPr>
                <a:t>Tempo of Evolution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5" descr="outil_bleu09_img02"/>
          <p:cNvPicPr/>
          <p:nvPr/>
        </p:nvPicPr>
        <p:blipFill>
          <a:blip r:embed="rId1"/>
          <a:stretch/>
        </p:blipFill>
        <p:spPr>
          <a:xfrm>
            <a:off x="1066680" y="4100400"/>
            <a:ext cx="67820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24_17SpeciationTempo-L.jpg"/>
          <p:cNvPicPr/>
          <p:nvPr/>
        </p:nvPicPr>
        <p:blipFill>
          <a:blip r:embed="rId1"/>
          <a:stretch/>
        </p:blipFill>
        <p:spPr>
          <a:xfrm>
            <a:off x="291960" y="1130400"/>
            <a:ext cx="85471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difference between microevolution and macroevolu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biological concept of a spec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zygotic and postzygotic barriers that maintain reproductive isolation in natural populait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allopatric and sympatric speciation are similar and differ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autopolyploid or an allopolyploid chromosomal change can lead to sympatric speci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punctuated equilibrium and gradualism describe two different tempos of speci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4456"/>
                </a:solidFill>
                <a:uFillTx/>
                <a:latin typeface="Trebuchet MS"/>
              </a:rPr>
              <a:t>Speciation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= origin of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639440"/>
            <a:ext cx="883908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icroev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hanges within a single gene p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croev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volutionary change above the species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umulative effects of speciation over long periods of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3" name="Picture 2" descr="24_02aBioSpeciesConcept-L.jpg"/>
          <p:cNvPicPr/>
          <p:nvPr/>
        </p:nvPicPr>
        <p:blipFill>
          <a:blip r:embed="rId1"/>
          <a:stretch/>
        </p:blipFill>
        <p:spPr>
          <a:xfrm>
            <a:off x="2362320" y="3581280"/>
            <a:ext cx="5473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Diagram 3" descr=""/>
          <p:cNvPicPr/>
          <p:nvPr/>
        </p:nvPicPr>
        <p:blipFill>
          <a:blip r:embed="rId1"/>
          <a:stretch/>
        </p:blipFill>
        <p:spPr>
          <a:xfrm>
            <a:off x="444600" y="1127160"/>
            <a:ext cx="8254800" cy="1085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peci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population or group of populations whose members have the potential to interbreed in nature and produce viable, fertile offsp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oductively compatib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Reproductive isol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barriers that prevent members of 2 species from producing viable, fertile hybr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Diagram 7" descr=""/>
          <p:cNvPicPr/>
          <p:nvPr/>
        </p:nvPicPr>
        <p:blipFill>
          <a:blip r:embed="rId1"/>
          <a:stretch/>
        </p:blipFill>
        <p:spPr>
          <a:xfrm>
            <a:off x="444600" y="828720"/>
            <a:ext cx="8254800" cy="1085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9810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zygotic Barri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Impede mating/fertiliz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Habitat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Tempor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Behavior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Mechanic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Gametic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0574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ostzygotic Barri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Prevent hybrid zygote from developing into viable adult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Reduced hybrid viabilit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Reduced hybrid fertilit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Hybrid breakdow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2368440" y="5303880"/>
            <a:ext cx="132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164120" y="5305320"/>
            <a:ext cx="1325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ERT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689440" y="5370480"/>
            <a:ext cx="1444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57200" y="0"/>
            <a:ext cx="8229600" cy="762120"/>
            <a:chOff x="457200" y="0"/>
            <a:chExt cx="8229600" cy="762120"/>
          </a:xfrm>
        </p:grpSpPr>
        <p:sp>
          <p:nvSpPr>
            <p:cNvPr id="233" name="Rounded Rectangle 28"/>
            <p:cNvSpPr/>
            <p:nvPr/>
          </p:nvSpPr>
          <p:spPr>
            <a:xfrm>
              <a:off x="457200" y="0"/>
              <a:ext cx="8229600" cy="7621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ounded Rectangle 4"/>
            <p:cNvSpPr/>
            <p:nvPr/>
          </p:nvSpPr>
          <p:spPr>
            <a:xfrm>
              <a:off x="507960" y="36360"/>
              <a:ext cx="812808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eorgia"/>
                </a:rPr>
                <a:t>Types of Reproductive Barri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" descr="24_03_bReproBarriers-L.jpg"/>
          <p:cNvPicPr/>
          <p:nvPr/>
        </p:nvPicPr>
        <p:blipFill>
          <a:blip r:embed="rId1"/>
          <a:stretch/>
        </p:blipFill>
        <p:spPr>
          <a:xfrm>
            <a:off x="291960" y="990720"/>
            <a:ext cx="879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2368440" y="5303880"/>
            <a:ext cx="132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164120" y="5305320"/>
            <a:ext cx="1325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ERT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689440" y="5370480"/>
            <a:ext cx="1444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7"/>
          <p:cNvGrpSpPr/>
          <p:nvPr/>
        </p:nvGrpSpPr>
        <p:grpSpPr>
          <a:xfrm>
            <a:off x="457200" y="0"/>
            <a:ext cx="8229600" cy="762120"/>
            <a:chOff x="457200" y="0"/>
            <a:chExt cx="8229600" cy="762120"/>
          </a:xfrm>
        </p:grpSpPr>
        <p:sp>
          <p:nvSpPr>
            <p:cNvPr id="240" name="Rounded Rectangle 28"/>
            <p:cNvSpPr/>
            <p:nvPr/>
          </p:nvSpPr>
          <p:spPr>
            <a:xfrm>
              <a:off x="457200" y="0"/>
              <a:ext cx="8229600" cy="7621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ounded Rectangle 4"/>
            <p:cNvSpPr/>
            <p:nvPr/>
          </p:nvSpPr>
          <p:spPr>
            <a:xfrm>
              <a:off x="507960" y="36360"/>
              <a:ext cx="812808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eorgia"/>
                </a:rPr>
                <a:t>Types of Reproductive Barri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" descr="24_03_cReproBarriers-L.jpg"/>
          <p:cNvPicPr/>
          <p:nvPr/>
        </p:nvPicPr>
        <p:blipFill>
          <a:blip r:embed="rId1"/>
          <a:stretch/>
        </p:blipFill>
        <p:spPr>
          <a:xfrm>
            <a:off x="1523880" y="838080"/>
            <a:ext cx="586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ther definitions of species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2209680"/>
            <a:ext cx="7848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Morpholog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by body shape, size, and other structural featur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niche/role in commun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Phylogenetic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share common ancestry, branch on tree of lif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local</cp:lastModifiedBy>
  <dcterms:modified xsi:type="dcterms:W3CDTF">2014-02-12T21:56:57Z</dcterms:modified>
  <cp:revision>49</cp:revision>
  <dc:subject/>
  <dc:title>Chapter 23</dc:title>
</cp:coreProperties>
</file>